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0A7F8-10AD-4DAF-B611-9FAAC32134F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4EDA2-C803-450E-9F79-806A424C2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FD505-5ED0-4509-955F-3752E0A50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6BFD3-1710-40A6-8DB7-B4A09A1E39C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F7800-F4BD-4D45-8486-4E939DADD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E7DF1-2C83-4C46-8D58-0D7FF73E8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8593B-9809-4EE7-AFD8-E340772BB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158A8-7E26-4CF1-8F45-964F2107D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3C083-C729-4EC0-BD29-5A93066F5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FAB78-BDA9-49CA-B782-CE4994477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01780-7410-43A0-841B-04E79DC9A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57521-A84B-45E7-BDA2-61A81DF97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A40ED-430D-495C-B138-26B2530C81B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6560" y="2781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第三节  脱水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护理评估要点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脱水的严重程度及临床特点：起病时间、体重下降程度、出入量、生命体征、皮肤弹性、眼窝凹陷及静脉充盈情况、有无意识障碍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病因及诱发因素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对患者的影响  重点评估有无血容量不足及中枢神经功能受损的表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24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诊断、治疗和护理经过 </a:t>
            </a:r>
            <a:r>
              <a:rPr b="1" lang="zh-CN" sz="37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1" lang="en-US" sz="37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相关护理诊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体液不足 与液体摄入不足或丢失过多有关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潜在并发症：意识障碍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7" name="Picture 4" descr=""/>
          <p:cNvPicPr/>
          <p:nvPr/>
        </p:nvPicPr>
        <p:blipFill>
          <a:blip r:embed="rId1"/>
          <a:srcRect l="0" t="18179" r="0" b="9089"/>
          <a:stretch/>
        </p:blipFill>
        <p:spPr>
          <a:xfrm>
            <a:off x="3060720" y="4510080"/>
            <a:ext cx="2589120" cy="18842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学习目标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659800" cy="50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识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基本概念；高渗性、低渗性和等渗性脱水的判断标准和临床主要表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理解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解释人体体液调节机制；说出引起脱水的常见病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应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能够对患者作出全面准确的护理评估，并提出护理诊断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黑体"/>
              </a:rPr>
              <a:t>脱水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定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是指体液丢失致使体液容量不足、细胞外液明显减少而引起的一组临床症候群，严重时会导致虚脱，甚至危及生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分类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根据血钠浓度和血浆胶体渗透压的不同将脱水分为高渗性脱水、低渗性脱水和等渗性脱水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种类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高渗性脱水 “原发性缺水”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失水多于失钠，血清钠＞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150mmol/L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血浆渗透压＞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310mOsm/L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主要见于水摄入不足、水丢失过多：包括经胃肠道失水过多、经呼吸道和皮肤失水过多、经肾失水过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plus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低渗性脱水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水和钠同时缺失，失钠多于失水，血清钠浓度＜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130mmol/L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血浆渗透压＜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280mOsm/L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细胞外液呈低渗状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常见病因：肾失水失钠过多，如长期使用排钠利尿剂；高渗或等渗失水治疗过程中只注重补水而忽视补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等渗性脱水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水和钠成比例丢失，血清钠浓度在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130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145mmol/L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血浆渗透压保持在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280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310mOsm/L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细胞外液呈等渗状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常见病因：消化液的急性丧失，如急性腹泻、剧烈呕吐，肠瘘等；大面积烧伤；反复大量放胸腔或腹腔积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3640" y="1125000"/>
            <a:ext cx="82278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黑体"/>
                <a:ea typeface="黑体"/>
              </a:rPr>
              <a:t>高渗性脱水：根据体重下降分为</a:t>
            </a:r>
            <a:r>
              <a:rPr b="0" lang="zh-CN" sz="3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3800" spc="-1" strike="noStrike">
                <a:solidFill>
                  <a:srgbClr val="000000"/>
                </a:solidFill>
                <a:latin typeface="黑体"/>
                <a:ea typeface="黑体"/>
              </a:rPr>
              <a:t>度</a:t>
            </a:r>
            <a:endParaRPr b="1" lang="en-US" sz="38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395280" y="1917720"/>
          <a:ext cx="8280360" cy="4603680"/>
        </p:xfrm>
        <a:graphic>
          <a:graphicData uri="http://schemas.openxmlformats.org/drawingml/2006/table">
            <a:tbl>
              <a:tblPr/>
              <a:tblGrid>
                <a:gridCol w="1041480"/>
                <a:gridCol w="1485720"/>
                <a:gridCol w="5753160"/>
              </a:tblGrid>
              <a:tr h="117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分度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1224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体重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下降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1224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临床表现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1224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轻度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1224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%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4%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1224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口渴、乏力、皮肤黏膜干燥、直立性低血压、尿量减少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1224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</a:tr>
              <a:tr h="1068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中度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5%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9%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皮肤弹性下降、眼窝深陷、心悸、血压下降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1295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重度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＞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0%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循环衰竭和中枢功能受损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: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少尿、血压↓、谵妄、嗜睡、昏迷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低渗性脱水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早期即有低钠血症表现如手足麻木、恶心、呕吐等，尿比重降低；血容量明显不足，出现脉搏细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重度低钠血症可导致脑细胞水肿而出现意识障碍；皮肤弹性明显下降、黏膜干燥、眼窝深陷等脱水貌较为明显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等渗性脱水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早期或轻症者无明显口渴感，血容量不足的临床表现出现较早；细胞外液容量严重减少时，可出现血压下降、现脉搏细速、肢端湿冷、休克甚至肾衰竭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1"/>
          <a:srcRect l="0" t="0" r="-344" b="5704"/>
          <a:stretch/>
        </p:blipFill>
        <p:spPr>
          <a:xfrm>
            <a:off x="3924360" y="4437000"/>
            <a:ext cx="2103480" cy="197640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cp:keywords/>
  <dc:language>en-US</dc:language>
  <cp:lastModifiedBy>赵欣</cp:lastModifiedBy>
  <dcterms:modified xsi:type="dcterms:W3CDTF">2015-12-16T07:34:31Z</dcterms:modified>
  <cp:revision>77</cp:revision>
  <dc:subject/>
  <dc:title>内科护理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93</vt:lpwstr>
  </property>
</Properties>
</file>